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418E32-1016-4472-82BD-2B7E85D952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520" y="1980720"/>
            <a:ext cx="76960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3520" y="4050720"/>
            <a:ext cx="76960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EF8291-A29A-4A50-A04D-DA2244160F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198072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477320" y="198072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33520" y="405072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477320" y="405072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E05E31-449F-404B-BCFD-E8C8E7EFE2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520" y="198072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35600" y="198072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737680" y="198072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33520" y="405072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35600" y="405072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737680" y="405072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8318E0-1ECC-4F64-8AD6-B3948651C0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B16F6D-80D4-4664-9DFC-170B0753530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33520" y="198072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6A5A91-D3A8-477C-9E31-DC9A9E0EE6D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3520" y="198072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DC8CBA-41FB-4CE1-8014-61239D25FDB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33520" y="1980720"/>
            <a:ext cx="3755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477320" y="1980720"/>
            <a:ext cx="3755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FA90AA-F503-492A-9DF6-1E6545FE03F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72077B-AD19-477D-A662-6B873A7E9CC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33520" y="60912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7D4C50-0787-4ACC-A115-ACC29978C54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33520" y="198072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477320" y="1980720"/>
            <a:ext cx="3755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33520" y="405072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73EFA1-A849-4A60-B0B8-647CC4EA309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33520" y="198072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B919E4-7955-4291-A0F6-767A042F6E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3520" y="1980720"/>
            <a:ext cx="3755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477320" y="198072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477320" y="405072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9990DC-67E2-41BD-8A3E-B496BFCA685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33520" y="198072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477320" y="198072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33520" y="4050720"/>
            <a:ext cx="76960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023236-3D3E-4E61-8C87-298FABC4B38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3520" y="1980720"/>
            <a:ext cx="76960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33520" y="4050720"/>
            <a:ext cx="76960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FDF453-F9F8-45E6-8165-5B06FE20363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33520" y="198072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477320" y="198072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33520" y="405072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477320" y="405072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7AFF52-1A8F-49A7-AB45-B3FF640C5A6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33520" y="198072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35600" y="198072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737680" y="198072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33520" y="405072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35600" y="405072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737680" y="405072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F32B63-B085-4100-9604-2180F19CD23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3520" y="198072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B8541A-B74B-4258-9FE3-72E00D12D0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3520" y="1980720"/>
            <a:ext cx="3755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477320" y="1980720"/>
            <a:ext cx="3755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DD35E5-AD43-4DD9-AD55-90F001111C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764016-3C34-4963-8F33-DBC2A94C6B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33520" y="60912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41AF42-840F-407C-9A24-CDA29B410C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3520" y="198072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477320" y="1980720"/>
            <a:ext cx="3755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33520" y="405072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DCA38F-F3E2-4577-9B4A-9FAE9A5EFE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3520" y="1980720"/>
            <a:ext cx="3755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77320" y="198072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477320" y="405072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3967EC-043B-4A7A-992D-8DD6342E80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3520" y="198072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477320" y="198072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3520" y="4050720"/>
            <a:ext cx="76960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921FA0-1355-4001-B00A-291846662B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4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520" y="198072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  <a:p>
            <a:pPr lvl="1"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  <a:p>
            <a:pPr lvl="2"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  <a:p>
            <a:pPr lvl="3"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  <a:p>
            <a:pPr lvl="4"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  <a:p>
            <a:pPr lvl="5"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  <a:p>
            <a:pPr lvl="6"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086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B600C-AE5E-4A94-9BA3-F2FFA0A9AAE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" name="wordCyan" descr=""/>
          <p:cNvPicPr/>
          <p:nvPr/>
        </p:nvPicPr>
        <p:blipFill>
          <a:blip r:embed="rId2"/>
          <a:stretch/>
        </p:blipFill>
        <p:spPr>
          <a:xfrm>
            <a:off x="457200" y="6326280"/>
            <a:ext cx="3276720" cy="22680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3809880" y="6402240"/>
            <a:ext cx="5334120" cy="74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 rot="5400000">
            <a:off x="5142960" y="3390840"/>
            <a:ext cx="6858000" cy="75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4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ldNum" idx="2"/>
          </p:nvPr>
        </p:nvSpPr>
        <p:spPr>
          <a:xfrm>
            <a:off x="7086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16E52-3133-4BB7-8B70-35C46182146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4" name="wordCyan" descr=""/>
          <p:cNvPicPr/>
          <p:nvPr/>
        </p:nvPicPr>
        <p:blipFill>
          <a:blip r:embed="rId2"/>
          <a:stretch/>
        </p:blipFill>
        <p:spPr>
          <a:xfrm>
            <a:off x="457200" y="6326280"/>
            <a:ext cx="3276720" cy="2268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809880" y="6402240"/>
            <a:ext cx="5334120" cy="74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400000">
            <a:off x="5142960" y="3390840"/>
            <a:ext cx="6858000" cy="75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4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From Start to Pilot: Comprehensive Redesign of a </a:t>
            </a:r>
            <a:r>
              <a:rPr b="1" lang="en-US" sz="3600" spc="-1" strike="noStrike">
                <a:solidFill>
                  <a:srgbClr val="ffff99"/>
                </a:solidFill>
                <a:latin typeface="Arial"/>
                <a:ea typeface="Times New Roman"/>
              </a:rPr>
              <a:t>Questionnaire Measuring </a:t>
            </a:r>
            <a:br>
              <a:rPr sz="3600"/>
            </a:br>
            <a:r>
              <a:rPr b="1" lang="en-US" sz="3600" spc="-1" strike="noStrike">
                <a:solidFill>
                  <a:srgbClr val="ffff99"/>
                </a:solidFill>
                <a:latin typeface="Arial"/>
                <a:ea typeface="Times New Roman"/>
              </a:rPr>
              <a:t>Foreign Direct Investment</a:t>
            </a: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533520" y="220932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Alfred D. Tuttle 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ff"/>
                </a:solidFill>
                <a:latin typeface="Arial"/>
              </a:rPr>
              <a:t>Rebecca L. Morrison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United States Census Bureau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9cc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David H. Galler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United States Bureau of 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Economic Analysis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4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320" y="-36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Original form</a:t>
            </a: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380960" y="762120"/>
            <a:ext cx="5705640" cy="5867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407933-212A-4F64-A4A3-02E80BFC604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4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320" y="-36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Recommendation: More “open” design</a:t>
            </a: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6781680" cy="5876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10FE7D-AB2D-41CA-A99B-EAED1EF8F60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4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320" y="-36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Recommendation: Embedded instructions</a:t>
            </a: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237960" y="2708280"/>
            <a:ext cx="8525160" cy="1344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C60F5B-BDB8-4B4B-9123-785A8FE7646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4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76320" y="0"/>
            <a:ext cx="7696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Recommendation: Adjacent instru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228600" y="1447920"/>
            <a:ext cx="4267080" cy="41986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4572000" y="1447920"/>
            <a:ext cx="4343400" cy="41781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2F2FC1-D445-4F14-A346-B1EC2B4EA13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4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6320" y="38052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Recommendations: Questions from instructions, and diagrams</a:t>
            </a:r>
            <a:br>
              <a:rPr sz="2800"/>
            </a:b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066680" y="1136520"/>
            <a:ext cx="6629400" cy="556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95CAB1-2DCA-4FCE-8285-9D8A8D01003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4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Cognitive testing</a:t>
            </a: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198072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Problematic sections mocked-up and tested (not entire forms)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5 rounds of cognitive interviews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Iterative process: 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ck-ups revised between round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ign features modified &amp; re-tes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2E3E36-420C-450A-8FC8-7578BF4CC9E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4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Findings from cognitive testing</a:t>
            </a: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3520" y="198072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New design features were effective: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jority of respondents liked the more open forma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mbedded instructions would likely improve data qua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me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“Instructions</a:t>
            </a:r>
            <a:r>
              <a:rPr b="0" i="1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Questions”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nd diagrams required extensive modification, though most did no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21CF72-4A96-4B0F-9B74-091B8B0D652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4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Developing 605 pilot</a:t>
            </a: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33520" y="198072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Redesigned entire BE-605 form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Close collaboration with BEA survey staff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6B76EF-F4CB-4115-8568-B90B15C8D92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4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Pilot test</a:t>
            </a: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33520" y="198072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Mailed 2</a:t>
            </a:r>
            <a:r>
              <a:rPr b="0" lang="en-US" sz="3200" spc="-1" strike="noStrike" baseline="30000">
                <a:solidFill>
                  <a:srgbClr val="99ccff"/>
                </a:solidFill>
                <a:latin typeface="Arial"/>
              </a:rPr>
              <a:t>nd</a:t>
            </a: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 quarter 2006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Sent to sub-sample (n = 653; survey sample ~4,000)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Completing pilot form optional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Response rate: 53% (350 returned forms) during initial 8-week processing period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479B83-514A-458A-9315-99B2A11F6BC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4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Pilot form evaluation</a:t>
            </a: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33520" y="198072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Respondent debriefings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Evaluation questions in form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66AF1E-3115-428F-A3AF-6B847438440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4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3520" y="8377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Overview – Redesign of BEA Form BE-605 </a:t>
            </a:r>
            <a:br>
              <a:rPr sz="3600"/>
            </a:b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Reimbursable project with BEA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Multiple, intensive stages of research, design, testing, revision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Qualitative and quantitative evaluations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New BE-605 form mailed out in March 2007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B1810F-C464-412E-8442-5158E5666F8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4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Findings – R debriefings</a:t>
            </a: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33520" y="198072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Favorable impressions of new form: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re pleasing to the ey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ite reporting spaces easier to see against colored backgroun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rger font, bold text, more sp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tter size pages easier to hand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agrams were helpfu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mbedded instructions helpfu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73F216-B6CD-46DC-99A9-7334704EC42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4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Findings – R debriefings</a:t>
            </a: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33520" y="198072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Drawbacks: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re pag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ooklet format makes it harder to fa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ok longer to complete than original form (disruption of reporting routin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98D263-7093-4420-B7AA-73930365B5D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4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Limitations</a:t>
            </a: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33520" y="198072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Stymied by experienced Rs, reporting routines…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…</a:t>
            </a: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though even experienced Rs were helped by new formatting and instructions.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1F8AB5-126D-49C8-85F5-89A29A4CC35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4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Findings – Evaluation questions</a:t>
            </a: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33520" y="198072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Four questions appended to survey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Each item received between 279 and 290 responses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F78762-A8CD-4061-9EEE-DC671A38387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4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Findings – Evaluation questions</a:t>
            </a: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33520" y="198072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Instruction placement?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79.3% - Near questions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18.3% - In separate booklet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ccff"/>
                </a:solidFill>
                <a:latin typeface="Arial"/>
              </a:rPr>
              <a:t>2.4%   -</a:t>
            </a:r>
            <a:r>
              <a:rPr b="0" lang="en-US" sz="2400" spc="-1" strike="noStrike">
                <a:solidFill>
                  <a:srgbClr val="99cc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ccff"/>
                </a:solidFill>
                <a:latin typeface="Arial"/>
              </a:rPr>
              <a:t>Not applicable – I haven’t completed the </a:t>
            </a:r>
            <a:r>
              <a:rPr b="0" lang="en-US" sz="2400" spc="-1" strike="noStrike">
                <a:solidFill>
                  <a:srgbClr val="99cc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cc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ccff"/>
                </a:solidFill>
                <a:latin typeface="Arial"/>
              </a:rPr>
              <a:t>usual BE-605</a:t>
            </a: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174499-4847-4B65-9A18-5829EFEB65B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4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Findings – Evaluation questions</a:t>
            </a: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33520" y="198072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Open space and number of pages?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48.7% - less open space, fewer pages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47% - more open space, more pages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ccff"/>
                </a:solidFill>
                <a:latin typeface="Arial"/>
              </a:rPr>
              <a:t>4.3%  -  Not applicable – I haven’t completed the </a:t>
            </a:r>
            <a:r>
              <a:rPr b="0" lang="en-US" sz="2400" spc="-1" strike="noStrike">
                <a:solidFill>
                  <a:srgbClr val="99cc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cc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ccff"/>
                </a:solidFill>
                <a:latin typeface="Arial"/>
              </a:rPr>
              <a:t>       usual BE-605</a:t>
            </a:r>
            <a:endParaRPr b="0" lang="en-US" sz="2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25494D-6C64-4001-A11F-70F4271539A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4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Findings – Evaluation questions</a:t>
            </a: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98072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Use of diagrams?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65.4% - very helpful or somewhat </a:t>
            </a: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helpful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11.7% - only a little helpful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18% - did not need them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3.9% - confusing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EBD2F4-09DB-47A4-BB09-1DC087189F09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4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Findings – Evaluation questions</a:t>
            </a: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33520" y="198072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Easy/difficult compared to usual form?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50.5% - harder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42.5% - easier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ccff"/>
                </a:solidFill>
                <a:latin typeface="Arial"/>
              </a:rPr>
              <a:t>7%</a:t>
            </a:r>
            <a:r>
              <a:rPr b="0" lang="en-US" sz="2400" spc="-1" strike="noStrike">
                <a:solidFill>
                  <a:srgbClr val="99cc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ccff"/>
                </a:solidFill>
                <a:latin typeface="Arial"/>
              </a:rPr>
              <a:t>-  Not applicable – I haven’t completed the </a:t>
            </a:r>
            <a:r>
              <a:rPr b="0" lang="en-US" sz="2400" spc="-1" strike="noStrike">
                <a:solidFill>
                  <a:srgbClr val="99cc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cc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ccff"/>
                </a:solidFill>
                <a:latin typeface="Arial"/>
              </a:rPr>
              <a:t>   usual BE-605</a:t>
            </a:r>
            <a:endParaRPr b="0" lang="en-US" sz="2400" spc="-1" strike="noStrike">
              <a:solidFill>
                <a:srgbClr val="99cc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80FE57-9CAA-4606-B587-82F0D4A94A17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4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Findings – Evaluation questions</a:t>
            </a: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3520" y="198072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Instructions preferred near questions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Organization charts helpful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Easier or more difficult?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Preference for more/fewer pages?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525FB7-4889-4F22-8D8D-7F798508E4AC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4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Summary</a:t>
            </a: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33520" y="198072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Redesigned BE-605 went into production in March 2007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commended analysis of edit checks during form process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CAE246-748B-4BE7-9851-40A64F0E212B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4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33520" y="198072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Background – BEA Form BE-605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Summary of stages of research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Findings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Next steps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33336B-58E7-45CC-B58F-1804BFBD157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4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Summary</a:t>
            </a: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33520" y="198072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Multi-method approach to comprehensive survey redevelopment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A3266D-CD74-4F04-BAA9-03584A09C08E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4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33520" y="1218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Thanks!</a:t>
            </a: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33520" y="198072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ccff"/>
              </a:solidFill>
              <a:latin typeface="Arial"/>
            </a:endParaRPr>
          </a:p>
          <a:p>
            <a:pPr marL="31536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ccff"/>
                </a:solidFill>
                <a:latin typeface="Arial"/>
              </a:rPr>
              <a:t>Alfred D. Tuttle</a:t>
            </a:r>
            <a:endParaRPr b="0" lang="en-US" sz="2800" spc="-1" strike="noStrike">
              <a:solidFill>
                <a:srgbClr val="99ccff"/>
              </a:solidFill>
              <a:latin typeface="Arial"/>
            </a:endParaRPr>
          </a:p>
          <a:p>
            <a:pPr marL="31536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ccff"/>
                </a:solidFill>
                <a:latin typeface="Arial"/>
              </a:rPr>
              <a:t>alfred.d.tuttle@census.gov </a:t>
            </a:r>
            <a:endParaRPr b="0" lang="en-US" sz="2800" spc="-1" strike="noStrike">
              <a:solidFill>
                <a:srgbClr val="99ccff"/>
              </a:solidFill>
              <a:latin typeface="Arial"/>
            </a:endParaRPr>
          </a:p>
          <a:p>
            <a:pPr marL="31536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ccff"/>
              </a:solidFill>
              <a:latin typeface="Arial"/>
            </a:endParaRPr>
          </a:p>
          <a:p>
            <a:pPr marL="31536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ccff"/>
                </a:solidFill>
                <a:latin typeface="Arial"/>
              </a:rPr>
              <a:t>Rebecca L. Morrison</a:t>
            </a:r>
            <a:endParaRPr b="0" lang="en-US" sz="2800" spc="-1" strike="noStrike">
              <a:solidFill>
                <a:srgbClr val="99ccff"/>
              </a:solidFill>
              <a:latin typeface="Arial"/>
            </a:endParaRPr>
          </a:p>
          <a:p>
            <a:pPr marL="31536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ccff"/>
                </a:solidFill>
                <a:latin typeface="Arial"/>
              </a:rPr>
              <a:t>rebecca.l.morrison@census.gov</a:t>
            </a:r>
            <a:endParaRPr b="0" lang="en-US" sz="2800" spc="-1" strike="noStrike">
              <a:solidFill>
                <a:srgbClr val="99ccff"/>
              </a:solidFill>
              <a:latin typeface="Arial"/>
            </a:endParaRPr>
          </a:p>
          <a:p>
            <a:pPr marL="31536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ccff"/>
              </a:solidFill>
              <a:latin typeface="Arial"/>
            </a:endParaRPr>
          </a:p>
          <a:p>
            <a:pPr marL="31536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ccff"/>
                </a:solidFill>
                <a:latin typeface="Arial"/>
              </a:rPr>
              <a:t>David Galler</a:t>
            </a:r>
            <a:endParaRPr b="0" lang="en-US" sz="2800" spc="-1" strike="noStrike">
              <a:solidFill>
                <a:srgbClr val="99ccff"/>
              </a:solidFill>
              <a:latin typeface="Arial"/>
            </a:endParaRPr>
          </a:p>
          <a:p>
            <a:pPr marL="31536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ccff"/>
                </a:solidFill>
                <a:latin typeface="Arial"/>
              </a:rPr>
              <a:t>david.galler@bea.gov</a:t>
            </a:r>
            <a:endParaRPr b="0" lang="en-US" sz="2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8DA5EE-08BB-4C41-8ED7-BF250CD2D89E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4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Background</a:t>
            </a: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33520" y="198072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BE-605 (quarterly) and BE-15 (annual) 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Foreign Direct Investment (FDI) – </a:t>
            </a:r>
            <a:r>
              <a:rPr b="0" lang="en-US" sz="3200" spc="-1" strike="noStrike" u="sng">
                <a:solidFill>
                  <a:srgbClr val="99ccff"/>
                </a:solidFill>
                <a:uFillTx/>
                <a:latin typeface="Arial"/>
              </a:rPr>
              <a:t>&gt;</a:t>
            </a: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10% of voting rights in an incorporated entity (or equivalent interest in unincorporated entity)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Sample – foreign-owned businesses   in US 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27DDEA-8E22-4AEE-92AF-F7426ADED93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4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Research stages and methods</a:t>
            </a: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Background investigations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pert review of for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cus groups with survey analy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bservations of callbac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pondent debriefing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477238-E566-45A3-BA3C-B593608EEAE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4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Research stages and methods</a:t>
            </a: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33520" y="198072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Cognitive testing of mockups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23A35A-828F-42BE-87BE-2149014CE8D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4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Research stages and methods</a:t>
            </a: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520" y="198072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Pilot test 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pondent debriefing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valuation ques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376B97-D23A-4A9F-AB39-1A9E01F607A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4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Findings from background research</a:t>
            </a: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33520" y="198072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Data collection and design issues: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Dense formatting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Economic accounting concepts differ from US GAAP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Separate instructions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7B43B0-B566-4CC2-864A-580C5BD258F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4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Recommendations</a:t>
            </a: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3520" y="198072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Formatting recommendations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tter size pages (not lega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re “open” visual desig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corporate instructions into form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thin ques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jacent to questions on facing pa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ey instructions become ques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agrams to augment ques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04A44F-8949-469E-9F26-AFD9CAE3B92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9T18:39:35Z</dcterms:created>
  <dc:creator>tuttl004</dc:creator>
  <dc:description/>
  <dc:language>en-US</dc:language>
  <cp:lastModifiedBy>tuttl004</cp:lastModifiedBy>
  <dcterms:modified xsi:type="dcterms:W3CDTF">2007-07-25T13:30:16Z</dcterms:modified>
  <cp:revision>4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86704241</vt:r8>
  </property>
  <property fmtid="{D5CDD505-2E9C-101B-9397-08002B2CF9AE}" pid="3" name="_AuthorEmail">
    <vt:lpwstr>Patricia.Abaroa@bea.gov</vt:lpwstr>
  </property>
  <property fmtid="{D5CDD505-2E9C-101B-9397-08002B2CF9AE}" pid="4" name="_AuthorEmailDisplayName">
    <vt:lpwstr>Abaroa, Patricia</vt:lpwstr>
  </property>
  <property fmtid="{D5CDD505-2E9C-101B-9397-08002B2CF9AE}" pid="5" name="_EmailSubject">
    <vt:lpwstr>Papers to be posted</vt:lpwstr>
  </property>
  <property fmtid="{D5CDD505-2E9C-101B-9397-08002B2CF9AE}" pid="6" name="_NewReviewCycle">
    <vt:lpwstr/>
  </property>
  <property fmtid="{D5CDD505-2E9C-101B-9397-08002B2CF9AE}" pid="7" name="_PreviousAdHocReviewCycleID">
    <vt:r8>-1116349394</vt:r8>
  </property>
</Properties>
</file>